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3FB-6A65-4F7C-9AB7-84755F1A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BE9-52E7-40F4-940D-BAB1652B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780-BF79-4332-9157-C897A97A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1FF-D187-4DE0-8E10-58A891FA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5EE-4B00-49FF-8C4B-129AE2A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FBD-B03B-41D6-8F65-77911BA4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E2B-976B-4CF2-BD11-85B978C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7CF-AA79-45CA-AC44-922B336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C60-EC15-4ECD-BD34-55B08003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AE7-62F5-47E5-938E-FD6BC24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3F6-7D52-4979-99B4-F5538243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F8D-51E7-49B2-874E-9662832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C48A-41B2-4F9C-9446-20533CCE6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alibri"/>
              </a:rPr>
              <a:t>AP Biology Tes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Sections: 90 Minutes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0% Grade each S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1 – 50% 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3 Multiple Choic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Grid in Math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SWER ALL QUESTIO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5 Minutes Ea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pending more than 2 minutes on a question move 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question read the last line see if you can answer it, if not then read the whole thing quick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o be 1.30 each question, so at least better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2 – 50% 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Minute Reading Period to read FR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Minutes to answer FRQ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Long FRQs (22 min each) (1 being a lab qu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Short FRQs (6 min e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at 4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at 3 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2 – 50% 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Write your FRQ Ans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 your Answers such as 1a, 1b, 1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write Literary Style- get to the poi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the Questi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Neatly and Big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care about spelling or gramm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in sentences and lots of correct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get a “3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at least 50% righ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y Right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the Point Cou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Timing! Bring a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5:30:04Z</dcterms:created>
  <dc:creator>Allison Magee</dc:creator>
  <dc:description/>
  <dc:language>en-US</dc:language>
  <cp:lastModifiedBy>Allison Magee</cp:lastModifiedBy>
  <dcterms:modified xsi:type="dcterms:W3CDTF">2015-04-06T17:16:46Z</dcterms:modified>
  <cp:revision>5</cp:revision>
  <dc:subject/>
  <dc:title>AP Biology Test Format</dc:title>
</cp:coreProperties>
</file>